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729-299E-4DF2-8AF4-CE837F10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4CE-7AEE-4ADA-ADAD-12606AA5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91D-E258-43BA-AF0B-2FA90557F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926-4CCF-4790-8083-65C4A5DF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7F6-6F43-46CF-956E-076C5BDF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1F4-226E-4A06-9B50-340041A4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277-7D63-4BA6-921B-CFE5D9CB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B9D-B6A0-4431-A32D-42ABFA0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EED-F20A-4B2B-B5E9-1FC9442F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A2F-6C50-416E-A144-1F1A143E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4EF-0D40-44B6-B91E-48111217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905-F890-4EF3-913A-D7BF63A7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479-8084-457D-BFD2-9F5C470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87C-4B28-471D-9423-64BE999E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363-DD3A-4A67-9D42-840E283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DAC-B768-40B2-933C-122398F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282-88F8-492B-90D9-7D6631B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36B-A4C8-4C7D-BA1E-3D1EA22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1B4-9821-4518-BA49-5B25C6ED0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7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23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28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33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8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1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19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2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29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42"/>
          <p:cNvSpPr txBox="1"/>
          <p:nvPr/>
        </p:nvSpPr>
        <p:spPr>
          <a:xfrm>
            <a:off x="1981080" y="914400"/>
            <a:ext cx="54864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ention 4th Grad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hematicians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8/30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64008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4/21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1/4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6858000" y="5257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6/6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8" name="AutoShape 4">
            <a:hlinkClick r:id="rId2" action="ppaction://hlinksldjump"/>
          </p:cNvPr>
          <p:cNvSpPr/>
          <p:nvPr/>
        </p:nvSpPr>
        <p:spPr>
          <a:xfrm>
            <a:off x="6553080" y="4648320"/>
            <a:ext cx="1600200" cy="121896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8354" h="21600">
                <a:moveTo>
                  <a:pt x="0" y="0"/>
                </a:moveTo>
                <a:lnTo>
                  <a:pt x="28354" y="0"/>
                </a:lnTo>
                <a:lnTo>
                  <a:pt x="28354" y="21600"/>
                </a:lnTo>
                <a:lnTo>
                  <a:pt x="0" y="21600"/>
                </a:lnTo>
                <a:close/>
              </a:path>
              <a:path fill="lightenLess" w="28354" h="21600">
                <a:moveTo>
                  <a:pt x="0" y="0"/>
                </a:moveTo>
                <a:lnTo>
                  <a:pt x="28354" y="0"/>
                </a:lnTo>
                <a:lnTo>
                  <a:pt x="26954" y="1400"/>
                </a:lnTo>
                <a:lnTo>
                  <a:pt x="1400" y="1400"/>
                </a:lnTo>
                <a:close/>
              </a:path>
              <a:path fill="darken" w="28354" h="21600">
                <a:moveTo>
                  <a:pt x="28354" y="0"/>
                </a:moveTo>
                <a:lnTo>
                  <a:pt x="28354" y="21600"/>
                </a:lnTo>
                <a:lnTo>
                  <a:pt x="26954" y="20200"/>
                </a:lnTo>
                <a:lnTo>
                  <a:pt x="26954" y="1400"/>
                </a:lnTo>
                <a:close/>
              </a:path>
              <a:path fill="darkenLess" w="28354" h="21600">
                <a:moveTo>
                  <a:pt x="28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4" y="20200"/>
                </a:lnTo>
                <a:close/>
              </a:path>
              <a:path fill="lighten" w="28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4" h="21600">
                <a:moveTo>
                  <a:pt x="7170" y="10800"/>
                </a:moveTo>
                <a:lnTo>
                  <a:pt x="21183" y="3794"/>
                </a:lnTo>
                <a:lnTo>
                  <a:pt x="2118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3/8 + 2/8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6553080" y="47242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12 + 7/12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AutoShape 4">
            <a:hlinkClick r:id="rId2" action="ppaction://hlinksldjump"/>
          </p:cNvPr>
          <p:cNvSpPr/>
          <p:nvPr/>
        </p:nvSpPr>
        <p:spPr>
          <a:xfrm>
            <a:off x="6553080" y="487692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¼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 + 3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¾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=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3" name="AutoShape 7">
            <a:hlinkClick r:id="rId2" action="ppaction://hlinksldjump"/>
          </p:cNvPr>
          <p:cNvSpPr/>
          <p:nvPr/>
        </p:nvSpPr>
        <p:spPr>
          <a:xfrm>
            <a:off x="6705720" y="50292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Kim, Alison, and Chris are painting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a wooden board for art class.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Kim paints 3/16 of the board. Alison paints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6/16 of the board, and Chris paints 4/16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of the board.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How much of the board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has been painted?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10800"/>
                </a:moveTo>
                <a:lnTo>
                  <a:pt x="18376" y="3794"/>
                </a:lnTo>
                <a:lnTo>
                  <a:pt x="1837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+                      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3049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6858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0666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14479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18288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22860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36576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40384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44197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48006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51814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55627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1523880" y="2438280"/>
            <a:ext cx="6248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Which equation matches the diagram?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2/6 + 3/6 = 5/6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6/4 + 6/3 = 3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½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4/6 + 3/6 = 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 1/6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2" name="AutoShape 25">
            <a:hlinkClick r:id="rId2" action="ppaction://hlinksldjump"/>
          </p:cNvPr>
          <p:cNvSpPr/>
          <p:nvPr/>
        </p:nvSpPr>
        <p:spPr>
          <a:xfrm>
            <a:off x="6629400" y="52578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9/1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447920" cy="106704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8" h="21600">
                <a:moveTo>
                  <a:pt x="0" y="0"/>
                </a:moveTo>
                <a:lnTo>
                  <a:pt x="29308" y="0"/>
                </a:lnTo>
                <a:lnTo>
                  <a:pt x="29308" y="21600"/>
                </a:lnTo>
                <a:lnTo>
                  <a:pt x="0" y="21600"/>
                </a:lnTo>
                <a:close/>
              </a:path>
              <a:path fill="lightenLess" w="29308" h="21600">
                <a:moveTo>
                  <a:pt x="0" y="0"/>
                </a:moveTo>
                <a:lnTo>
                  <a:pt x="29308" y="0"/>
                </a:lnTo>
                <a:lnTo>
                  <a:pt x="27908" y="1400"/>
                </a:lnTo>
                <a:lnTo>
                  <a:pt x="1400" y="1400"/>
                </a:lnTo>
                <a:close/>
              </a:path>
              <a:path fill="darken" w="29308" h="21600">
                <a:moveTo>
                  <a:pt x="29308" y="0"/>
                </a:moveTo>
                <a:lnTo>
                  <a:pt x="29308" y="21600"/>
                </a:lnTo>
                <a:lnTo>
                  <a:pt x="27908" y="20200"/>
                </a:lnTo>
                <a:lnTo>
                  <a:pt x="27908" y="1400"/>
                </a:lnTo>
                <a:close/>
              </a:path>
              <a:path fill="darkenLess" w="29308" h="21600">
                <a:moveTo>
                  <a:pt x="2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8" y="20200"/>
                </a:lnTo>
                <a:close/>
              </a:path>
              <a:path fill="lighten" w="2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8" h="21600">
                <a:moveTo>
                  <a:pt x="7647" y="10800"/>
                </a:moveTo>
                <a:lnTo>
                  <a:pt x="21660" y="3794"/>
                </a:lnTo>
                <a:lnTo>
                  <a:pt x="2166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or 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4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8" name="AutoShape 4">
            <a:hlinkClick r:id="rId2" action="ppaction://hlinksldjump"/>
          </p:cNvPr>
          <p:cNvSpPr/>
          <p:nvPr/>
        </p:nvSpPr>
        <p:spPr>
          <a:xfrm>
            <a:off x="6400800" y="4648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5413" y="10800"/>
                </a:moveTo>
                <a:lnTo>
                  <a:pt x="19426" y="3794"/>
                </a:lnTo>
                <a:lnTo>
                  <a:pt x="1942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5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828800" cy="144792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7281" h="21600">
                <a:moveTo>
                  <a:pt x="0" y="0"/>
                </a:moveTo>
                <a:lnTo>
                  <a:pt x="27281" y="0"/>
                </a:lnTo>
                <a:lnTo>
                  <a:pt x="27281" y="21600"/>
                </a:lnTo>
                <a:lnTo>
                  <a:pt x="0" y="21600"/>
                </a:lnTo>
                <a:close/>
              </a:path>
              <a:path fill="lightenLess" w="27281" h="21600">
                <a:moveTo>
                  <a:pt x="0" y="0"/>
                </a:moveTo>
                <a:lnTo>
                  <a:pt x="27281" y="0"/>
                </a:lnTo>
                <a:lnTo>
                  <a:pt x="25881" y="1400"/>
                </a:lnTo>
                <a:lnTo>
                  <a:pt x="1400" y="1400"/>
                </a:lnTo>
                <a:close/>
              </a:path>
              <a:path fill="darken" w="27281" h="21600">
                <a:moveTo>
                  <a:pt x="27281" y="0"/>
                </a:moveTo>
                <a:lnTo>
                  <a:pt x="27281" y="21600"/>
                </a:lnTo>
                <a:lnTo>
                  <a:pt x="25881" y="20200"/>
                </a:lnTo>
                <a:lnTo>
                  <a:pt x="25881" y="1400"/>
                </a:lnTo>
                <a:close/>
              </a:path>
              <a:path fill="darkenLess" w="27281" h="21600">
                <a:moveTo>
                  <a:pt x="2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1" y="20200"/>
                </a:lnTo>
                <a:close/>
              </a:path>
              <a:path fill="lighten" w="2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1" h="21600">
                <a:moveTo>
                  <a:pt x="6634" y="10800"/>
                </a:moveTo>
                <a:lnTo>
                  <a:pt x="20647" y="3794"/>
                </a:lnTo>
                <a:lnTo>
                  <a:pt x="2064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improper fraction fo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mixed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6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¾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4" h="21600">
                <a:moveTo>
                  <a:pt x="5696" y="10800"/>
                </a:moveTo>
                <a:lnTo>
                  <a:pt x="19708" y="3794"/>
                </a:lnTo>
                <a:lnTo>
                  <a:pt x="19708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improper fraction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mixed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6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½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14400" y="1828800"/>
            <a:ext cx="70866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8" name="AutoShape 5">
            <a:hlinkClick r:id="rId2" action="ppaction://hlinksldjump"/>
          </p:cNvPr>
          <p:cNvSpPr/>
          <p:nvPr/>
        </p:nvSpPr>
        <p:spPr>
          <a:xfrm>
            <a:off x="6553080" y="49528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/5 , 1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1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Rectangle 2">
            <a:hlinkClick r:id="rId2" action="ppaction://hlinksldjump"/>
          </p:cNvPr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6 , 3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5" name="AutoShape 5">
            <a:hlinkClick r:id="rId3" action="ppaction://hlinksldjump"/>
          </p:cNvPr>
          <p:cNvSpPr/>
          <p:nvPr/>
        </p:nvSpPr>
        <p:spPr>
          <a:xfrm>
            <a:off x="6248520" y="5105520"/>
            <a:ext cx="1828800" cy="144756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7287" h="21600">
                <a:moveTo>
                  <a:pt x="0" y="0"/>
                </a:moveTo>
                <a:lnTo>
                  <a:pt x="27287" y="0"/>
                </a:lnTo>
                <a:lnTo>
                  <a:pt x="27287" y="21600"/>
                </a:lnTo>
                <a:lnTo>
                  <a:pt x="0" y="21600"/>
                </a:lnTo>
                <a:close/>
              </a:path>
              <a:path fill="lightenLess" w="27287" h="21600">
                <a:moveTo>
                  <a:pt x="0" y="0"/>
                </a:moveTo>
                <a:lnTo>
                  <a:pt x="27287" y="0"/>
                </a:lnTo>
                <a:lnTo>
                  <a:pt x="25887" y="1400"/>
                </a:lnTo>
                <a:lnTo>
                  <a:pt x="1400" y="1400"/>
                </a:lnTo>
                <a:close/>
              </a:path>
              <a:path fill="darken" w="27287" h="21600">
                <a:moveTo>
                  <a:pt x="27287" y="0"/>
                </a:moveTo>
                <a:lnTo>
                  <a:pt x="27287" y="21600"/>
                </a:lnTo>
                <a:lnTo>
                  <a:pt x="25887" y="20200"/>
                </a:lnTo>
                <a:lnTo>
                  <a:pt x="25887" y="1400"/>
                </a:lnTo>
                <a:close/>
              </a:path>
              <a:path fill="darkenLess" w="27287" h="21600">
                <a:moveTo>
                  <a:pt x="27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7" y="20200"/>
                </a:lnTo>
                <a:close/>
              </a:path>
              <a:path fill="lighten" w="27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7" h="21600">
                <a:moveTo>
                  <a:pt x="6637" y="10800"/>
                </a:moveTo>
                <a:lnTo>
                  <a:pt x="20650" y="3794"/>
                </a:lnTo>
                <a:lnTo>
                  <a:pt x="2065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12 , 2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0" y="1889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AutoShape 5">
            <a:hlinkClick r:id="rId2" action="ppaction://hlinksldjump"/>
          </p:cNvPr>
          <p:cNvSpPr/>
          <p:nvPr/>
        </p:nvSpPr>
        <p:spPr>
          <a:xfrm>
            <a:off x="6172200" y="50292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5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/4 , 2/5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752480" cy="121932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2" h="21600">
                <a:moveTo>
                  <a:pt x="0" y="0"/>
                </a:moveTo>
                <a:lnTo>
                  <a:pt x="31042" y="0"/>
                </a:lnTo>
                <a:lnTo>
                  <a:pt x="31042" y="21600"/>
                </a:lnTo>
                <a:lnTo>
                  <a:pt x="0" y="21600"/>
                </a:lnTo>
                <a:close/>
              </a:path>
              <a:path fill="lightenLess" w="31042" h="21600">
                <a:moveTo>
                  <a:pt x="0" y="0"/>
                </a:moveTo>
                <a:lnTo>
                  <a:pt x="31042" y="0"/>
                </a:lnTo>
                <a:lnTo>
                  <a:pt x="29642" y="1400"/>
                </a:lnTo>
                <a:lnTo>
                  <a:pt x="1400" y="1400"/>
                </a:lnTo>
                <a:close/>
              </a:path>
              <a:path fill="darken" w="31042" h="21600">
                <a:moveTo>
                  <a:pt x="31042" y="0"/>
                </a:moveTo>
                <a:lnTo>
                  <a:pt x="31042" y="21600"/>
                </a:lnTo>
                <a:lnTo>
                  <a:pt x="29642" y="20200"/>
                </a:lnTo>
                <a:lnTo>
                  <a:pt x="29642" y="1400"/>
                </a:lnTo>
                <a:close/>
              </a:path>
              <a:path fill="darkenLess" w="31042" h="21600">
                <a:moveTo>
                  <a:pt x="31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2" y="20200"/>
                </a:lnTo>
                <a:close/>
              </a:path>
              <a:path fill="lighten" w="31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2" h="21600">
                <a:moveTo>
                  <a:pt x="8515" y="10800"/>
                </a:moveTo>
                <a:lnTo>
                  <a:pt x="22527" y="3794"/>
                </a:lnTo>
                <a:lnTo>
                  <a:pt x="2252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/12 , 3/4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AutoShape 4">
            <a:hlinkClick r:id="rId2" action="ppaction://hlinksldjump"/>
          </p:cNvPr>
          <p:cNvSpPr/>
          <p:nvPr/>
        </p:nvSpPr>
        <p:spPr>
          <a:xfrm>
            <a:off x="6324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0092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4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7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0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3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6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9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2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5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8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1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4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0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3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6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9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2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8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4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7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0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3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6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9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2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5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8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41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quivalent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ducing 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ding 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xed Number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eater,  Less or =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Text Box 210"/>
          <p:cNvSpPr/>
          <p:nvPr/>
        </p:nvSpPr>
        <p:spPr>
          <a:xfrm>
            <a:off x="7696080" y="914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R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54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6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ubtract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3/5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2/5 =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6553080" y="49528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my ate 3/8 of a pizza on Monday, 1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f a pizza on Wednesday, and 5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f a pizza on Friday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much pizza did she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at altogether in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ose three days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391520" y="53341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10800"/>
                </a:moveTo>
                <a:lnTo>
                  <a:pt x="22434" y="3794"/>
                </a:lnTo>
                <a:lnTo>
                  <a:pt x="2243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ich of these decimals, whe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ounded to the nearest whole number,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ounds to 8 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9.1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71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45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5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553080" y="45720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6" h="21600">
                <a:moveTo>
                  <a:pt x="6971" y="10800"/>
                </a:moveTo>
                <a:lnTo>
                  <a:pt x="20984" y="3794"/>
                </a:lnTo>
                <a:lnTo>
                  <a:pt x="2098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s this number sentence true or fals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8 ÷ (2x3) + 5 = 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6477120" y="46483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Mar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 pencil was 8/12 of a foot whe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he bought it from the school store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ast week, she used 3/12 of a foot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long is Mar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 pencil now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6400800" y="502920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in these equivalent fraction: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3/5 = 6/x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467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6400800" y="51055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2/36 = x/7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4" name="AutoShape 5">
            <a:hlinkClick r:id="rId2" action="ppaction://hlinksldjump"/>
          </p:cNvPr>
          <p:cNvSpPr/>
          <p:nvPr/>
        </p:nvSpPr>
        <p:spPr>
          <a:xfrm>
            <a:off x="6705720" y="4952880"/>
            <a:ext cx="1447560" cy="1371600"/>
          </a:xfrm>
          <a:custGeom>
            <a:avLst/>
            <a:gdLst>
              <a:gd name="textAreaLeft" fmla="*/ 88920 w 1447560"/>
              <a:gd name="textAreaRight" fmla="*/ 1358640 w 14475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2796" h="21600">
                <a:moveTo>
                  <a:pt x="0" y="0"/>
                </a:moveTo>
                <a:lnTo>
                  <a:pt x="22796" y="0"/>
                </a:lnTo>
                <a:lnTo>
                  <a:pt x="22796" y="21600"/>
                </a:lnTo>
                <a:lnTo>
                  <a:pt x="0" y="21600"/>
                </a:lnTo>
                <a:close/>
              </a:path>
              <a:path fill="lightenLess" w="22796" h="21600">
                <a:moveTo>
                  <a:pt x="0" y="0"/>
                </a:moveTo>
                <a:lnTo>
                  <a:pt x="22796" y="0"/>
                </a:lnTo>
                <a:lnTo>
                  <a:pt x="21396" y="1400"/>
                </a:lnTo>
                <a:lnTo>
                  <a:pt x="1400" y="1400"/>
                </a:lnTo>
                <a:close/>
              </a:path>
              <a:path fill="darken" w="22796" h="21600">
                <a:moveTo>
                  <a:pt x="22796" y="0"/>
                </a:moveTo>
                <a:lnTo>
                  <a:pt x="22796" y="21600"/>
                </a:lnTo>
                <a:lnTo>
                  <a:pt x="21396" y="20200"/>
                </a:lnTo>
                <a:lnTo>
                  <a:pt x="21396" y="1400"/>
                </a:lnTo>
                <a:close/>
              </a:path>
              <a:path fill="darkenLess" w="22796" h="21600">
                <a:moveTo>
                  <a:pt x="2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6" y="20200"/>
                </a:lnTo>
                <a:close/>
              </a:path>
              <a:path fill="lighten" w="2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96" h="21600">
                <a:moveTo>
                  <a:pt x="4391" y="10800"/>
                </a:moveTo>
                <a:lnTo>
                  <a:pt x="18404" y="3794"/>
                </a:lnTo>
                <a:lnTo>
                  <a:pt x="184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0/30 = 2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10800"/>
                </a:moveTo>
                <a:lnTo>
                  <a:pt x="19155" y="3794"/>
                </a:lnTo>
                <a:lnTo>
                  <a:pt x="1915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x/25 = 10/50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6477120" y="50292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5593" y="10800"/>
                </a:moveTo>
                <a:lnTo>
                  <a:pt x="19606" y="3794"/>
                </a:lnTo>
                <a:lnTo>
                  <a:pt x="196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2/18 = 48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AutoShape 4">
            <a:hlinkClick r:id="rId2" action="ppaction://hlinksldjump"/>
          </p:cNvPr>
          <p:cNvSpPr/>
          <p:nvPr/>
        </p:nvSpPr>
        <p:spPr>
          <a:xfrm>
            <a:off x="6248520" y="487692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6191" y="10800"/>
                </a:moveTo>
                <a:lnTo>
                  <a:pt x="20204" y="3794"/>
                </a:lnTo>
                <a:lnTo>
                  <a:pt x="202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4/1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6" name="AutoShape 4">
            <a:hlinkClick r:id="rId2" action="ppaction://hlinksldjump"/>
          </p:cNvPr>
          <p:cNvSpPr/>
          <p:nvPr/>
        </p:nvSpPr>
        <p:spPr>
          <a:xfrm>
            <a:off x="6477120" y="449568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a Flyod</cp:lastModifiedBy>
  <dcterms:modified xsi:type="dcterms:W3CDTF">2010-05-10T21:04:42Z</dcterms:modified>
  <cp:revision>70</cp:revision>
  <dc:subject/>
  <dc:title>No Slide Title</dc:title>
</cp:coreProperties>
</file>